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11B0-EDF0-4C82-9256-43E147997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4923000"/>
            <a:ext cx="5029200" cy="295560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4D5-B72A-44DE-B58E-2AAE7B3E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2D8-8E94-4C35-BEED-E8527B00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545-C73A-4E2D-AE7D-4279CFE7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E19-EE1E-465B-BF37-EEAED54E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3C4D-1AF6-40A5-9205-07C18647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3902-5377-4259-8E70-CED154C4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197D-5495-4318-B6AE-F56455FB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B4F7-6AF6-4304-811B-BC2E8739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C6E4-8325-4DEC-A312-2A6CDC86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DFCF-905B-4EE7-9B5B-4647D6FC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F9C5-0B57-4A1A-85FC-2E5566C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978-FE21-4B82-BE98-500C45B3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FDA5-7EC5-4070-9E00-B5A7A9A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2C66-D0D6-46BE-9414-4A6460C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D884-CC0A-4883-9087-046DA8FD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BA4B-ED9E-46AC-BCE8-7AB34C99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183F-7ED6-42C9-B7D0-FD640132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9F4-B072-4739-9A9B-55084335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F17-18F9-4D85-AE35-E6DD107F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35C-46C2-49C4-8673-AF811BE1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CEA-D37F-433D-8FC2-7D0BAEF6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2D5-FD1C-420B-9B7F-E12E0AA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4C2-AA7B-4A92-BD74-C1545720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CE7-51AA-45EB-B749-E82535FF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_x001d__x001d__x001d_Advances in Multicast - </a:t>
            </a:r>
            <a:br>
              <a:rPr sz="4400"/>
            </a:b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Single Source Multicast (SSM)</a:t>
            </a:r>
            <a:br>
              <a:rPr sz="4400"/>
            </a:b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(with a little on multicast DO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shall Eu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me@on-the-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The New SSM Protocol</a:t>
            </a:r>
            <a:br>
              <a:rPr sz="4400"/>
            </a:br>
            <a:r>
              <a:rPr b="0" lang="en-US" sz="2000" spc="-1" strike="noStrike">
                <a:solidFill>
                  <a:srgbClr val="020202"/>
                </a:solidFill>
                <a:latin typeface="Times New Roman"/>
              </a:rPr>
              <a:t>&lt;draft-ietf-pim-sm-v2-new-01.txt&gt;</a:t>
            </a:r>
            <a:br>
              <a:rPr sz="2000"/>
            </a:br>
            <a:r>
              <a:rPr b="0" lang="en-US" sz="2000" spc="-1" strike="noStrike">
                <a:solidFill>
                  <a:srgbClr val="020202"/>
                </a:solidFill>
                <a:latin typeface="Times New Roman"/>
              </a:rPr>
              <a:t>&lt;draft-holbrook-ssm-arch-00.txt&gt;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Source Multicast (SS_x0008__x0008_M) is a sub-set of PIM-SM for one to many on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2 / 8 is assigned to S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ge routers Need IGMP version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ior Routers need  list filters to prevent RP (*,G) jo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SM is much simp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9000" y="1689120"/>
            <a:ext cx="87645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SSM </a:t>
            </a: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Advantages</a:t>
            </a: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R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need for MSD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joins are (S,G), so no need for Class D address all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0202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AC address collisions are still a potential probl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vers find out about sources through out-of-band means (such as a web si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now any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M Advantages (cont’d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M-only implementations are much simpler than the full PIM-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ootstrap RP Ele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Register state mach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ed to keep  (*,G), (S,G,rpt) and (*,*,RP)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(*,G) Assert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SSM Advantages (cont’d)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eiver issues a (S,G) join direct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the join is to a specific Source IP address, unintended Sources cannot join the transmi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important to broadcasters who want to control their transmi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SSM Deployment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PIM-SM deployed, then you can run SSM on the interior of your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ust filter out (*,G) joins/leaves on 232 /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P v.3 versions are available / co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rosoft “Whistler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ux kernel support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sco has available stand-alone “v3-lit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s are coming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SSM Disadvantages</a:t>
            </a: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ires I_x001d_GMP v.3, which is not widely deploy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draft-ietf-idmr-igmp-v3-05.ps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th applications and edge-routers must be upgra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,G) joins can be issued in the absence of source transmissions, enabling DOS attacks against a source S or its first hop rou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Times New Roman"/>
              </a:rPr>
              <a:t>Multicast and </a:t>
            </a:r>
            <a:br>
              <a:rPr sz="3600"/>
            </a:br>
            <a:r>
              <a:rPr b="0" lang="en-US" sz="3600" spc="-1" strike="noStrike">
                <a:solidFill>
                  <a:srgbClr val="020202"/>
                </a:solidFill>
                <a:latin typeface="Times New Roman"/>
              </a:rPr>
              <a:t>Denial of Service attacks</a:t>
            </a:r>
            <a:endParaRPr b="0" lang="en-US" sz="3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asting is subject to a number of Denial of Service Attac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an take three basic fo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GMP join messages can be sent to the first hop router for a given  (*,G) or (with IGMP v.3) includes for a given (S,G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ost can start issuing multicast data for a particular Group, G, thereby generating (S,G)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possible in principle to spoof intra-router control packets;  however, RPF and other checks make this diffic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Times New Roman"/>
              </a:rPr>
              <a:t>The “RAMEN” Worm as a </a:t>
            </a:r>
            <a:br>
              <a:rPr sz="4000"/>
            </a:br>
            <a:r>
              <a:rPr b="0" lang="en-US" sz="4000" spc="-1" strike="noStrike">
                <a:solidFill>
                  <a:srgbClr val="020202"/>
                </a:solidFill>
                <a:latin typeface="Times New Roman"/>
              </a:rPr>
              <a:t>Multicast DOS</a:t>
            </a:r>
            <a:endParaRPr b="0" lang="en-US" sz="4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detected through its effect on the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d by 40,000+ SA’s being sent in ~ one minu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term fix is to rate limit on SA’s or on the port used by the W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imes New Roman"/>
              </a:rPr>
              <a:t>Evidence for the MSDP “RAMEN” WOR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71600" y="888840"/>
            <a:ext cx="6438960" cy="261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371600" y="3632040"/>
            <a:ext cx="6438960" cy="2616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05320" y="6324480"/>
            <a:ext cx="57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aida.org/tools/measurement/Mantra/session-mon/session-m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What is Multicast ?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bility to replicate packets inside the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tream from the sender can be sent to many recipi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col Independent Multicasting- Sparse Mode is the current standard : Internet Standard Multicast (IS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The Worm exposed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 Ramen WORM at work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 scanned a /16 in the Class D sp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 thus sent one packet to each of ~ 64,000 groups (Class D addresse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HR encapsulated these and sent them to the R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P encapsulated each packet into a Session Announcement and sent these to neighboring RP’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se were then flooded throughout the Inter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of this happened within a few minu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used a number of router “melt-dow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astounding thing is that this almost certainly was NOT directl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med at a multicasting D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ppy programming on the port scan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cast DOS : Rate Limi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ll need a defense in depth against DOS atta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te limits are be needed to limit the spread of these attack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GMP rou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te limit number of joins and leaves from a 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M router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mit groups created by a given source, 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te limit incoming joins and lea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te limit RP register messages at the RP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te limit incoming Session Announc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te limit incoming Register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cast DOS : ISM vs SS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406520" y="1785960"/>
          <a:ext cx="6327720" cy="366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6520" y="1785960"/>
                    <a:ext cx="6327720" cy="36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81080" y="56386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e : FHR = first hop rou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asting will be necessary for truly affordable broadcasts to mass audiences on the Interne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ion of SSM and IGMP v.3 is co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to seriously address DOS sensitivit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 me at tme@on-the-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Why Multicast ?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it has a favorable marginal cost for streaming me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aming Media over unicast is more expensive to deliver than you can get from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ew months ago, this seemed less important, but now..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What Are the Holdups ?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Multicasting is so compelling, why is it not in common us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cast is very complic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 to fit all applications with one transport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-SM is intended for both one to many and many to many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DP, the current solution for inter-domain multicasts, does not scale we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Times New Roman"/>
              </a:rPr>
              <a:t>Internet Standard Multicast (ISM)</a:t>
            </a:r>
            <a:endParaRPr b="0" lang="en-US" sz="4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 name for general multica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Independent Multicast - Sparse Mode (PIM-SM) pl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Source Discovery Protocol - MSDP &amp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rotocol BG_x0008_P (MBG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rouble with ISM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one can join a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DP doesn’t sc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M-SM requires a Rendezvous Point (R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7120" indent="-10728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are subject to att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The Trouble with RP’s</a:t>
            </a: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M-SM requires at least one R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 (S) sends multicast data to the 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join a group, issue a (*,G) join to the 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P sends data down the shared tre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r (maybe) a (S,G) join is issued to switch traffic from the shared tree to a shortest path tre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general, no mechanism to stop a rogue source from sending data to the R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0202"/>
                </a:solidFill>
                <a:latin typeface="Times New Roman"/>
              </a:rPr>
              <a:t>The Trouble with MSDP</a:t>
            </a:r>
            <a:br>
              <a:rPr sz="4400"/>
            </a:br>
            <a:r>
              <a:rPr b="0" lang="en-US" sz="2000" spc="-1" strike="noStrike">
                <a:solidFill>
                  <a:srgbClr val="020202"/>
                </a:solidFill>
                <a:latin typeface="Times New Roman"/>
              </a:rPr>
              <a:t>&lt;draft-ietf-msdp-spec-06.txt&gt;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source, a Source Active (SA) mess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ain routers are set up as MSDP pe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send unicast TCP messages with SA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peer-flooded through-out the entire multicast enabled 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scale well - all peers get all source announc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Interdomain ISM is complicated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9000" y="1612800"/>
            <a:ext cx="87645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ISM Join - cont’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263600"/>
            <a:ext cx="87645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3:20:10Z</dcterms:created>
  <dc:creator>Thomas Marshall Eubanks</dc:creator>
  <dc:description/>
  <dc:language>en-US</dc:language>
  <cp:lastModifiedBy>Marshall Eubanks</cp:lastModifiedBy>
  <dcterms:modified xsi:type="dcterms:W3CDTF">2001-02-13T00:20:36Z</dcterms:modified>
  <cp:revision>52</cp:revision>
  <dc:subject/>
  <dc:title>Tales from the IETF - The Advance of Single Source Multicast</dc:title>
</cp:coreProperties>
</file>